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8993-7C3F-4559-AEDB-B7E4F2492A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ECF7-0CC1-423D-84A7-756540A0A1E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F9AE-E23D-4D21-8B90-F85894CBC95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2A3A-C9EC-4CFF-BC53-BA8CA2CAFD2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36C1-2E18-46B7-9D82-E10D81D1BAD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9B75-1494-4A1F-9158-2E591EBDE34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9C04-B19A-454C-826D-8698259BA76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AA49-E3FA-49A5-9C87-46F185354A6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5E0B-9238-41F5-BD11-D7DEA8CE072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87DF-7671-4860-BAAD-E2F56C72D5F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C08B-ECEA-447B-94A4-178E6EA6A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7EEA-DCF3-4FFE-938F-736C03CD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4880-D023-43C8-89F5-38717C2BF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BF72-3A29-4FCF-98C7-256540449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4B57-5DB3-4CB6-B7DB-91F59B13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B5AA-8DB8-4D00-B8E2-14940EA9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506D-D902-4BE6-A465-3581D259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2E2E-D91C-4C77-A326-8F151BD4D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FC8C-E486-4252-8552-A8535274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4801-E1D8-445B-9DCE-840742CF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57F2-51EA-4F0E-A65C-998E889C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1157-5BC2-4CD3-8686-99BFFC99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76C3-2F3A-46CC-B68B-33737B3B18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2060"/>
                </a:solidFill>
                <a:latin typeface="文鼎標楷下漢語拼音C1"/>
                <a:ea typeface="文鼎標楷下漢語拼音C1"/>
              </a:rPr>
              <a:t>猜字遊戲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7020000" y="5589720"/>
            <a:ext cx="1816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2600" y="1571400"/>
            <a:ext cx="820116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800" spc="-1" strike="noStrike">
                <a:solidFill>
                  <a:srgbClr val="000000"/>
                </a:solidFill>
                <a:latin typeface="文鼎標楷下漢語拼音L4"/>
                <a:ea typeface="文鼎標楷下漢語拼音L4"/>
              </a:rPr>
              <a:t>去</a:t>
            </a:r>
            <a:endParaRPr b="0" lang="en-US" sz="3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7308360" y="5010840"/>
            <a:ext cx="1040040" cy="19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66"/>
              </a:solidFill>
              <a:latin typeface="Chinese Pinyin"/>
              <a:ea typeface="新細明體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  <a:ea typeface="新細明體"/>
              </a:rPr>
              <a:t>1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  <a:ea typeface="新細明體"/>
              </a:rPr>
              <a:t>2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7"/>
          <p:cNvSpPr/>
          <p:nvPr/>
        </p:nvSpPr>
        <p:spPr>
          <a:xfrm>
            <a:off x="6877080" y="5516640"/>
            <a:ext cx="1942920" cy="906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拼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  <a:ea typeface="新細明體"/>
              </a:rPr>
              <a:t>4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  <a:ea typeface="新細明體"/>
              </a:rPr>
              <a:t>3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6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497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4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505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0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521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020000" y="5589720"/>
            <a:ext cx="1816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3714840"/>
            <a:ext cx="7772400" cy="18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0" spc="-1" strike="noStrike">
                <a:solidFill>
                  <a:srgbClr val="000000"/>
                </a:solidFill>
                <a:latin typeface="文鼎標楷下漢語拼音L4"/>
                <a:ea typeface="文鼎標楷下漢語拼音L4"/>
              </a:rPr>
              <a:t>看</a:t>
            </a:r>
            <a:endParaRPr b="0" lang="en-US" sz="2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308360" y="5010840"/>
            <a:ext cx="1040040" cy="19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66"/>
              </a:solidFill>
              <a:latin typeface="Chinese Pinyin"/>
              <a:ea typeface="新細明體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Calibri"/>
                <a:ea typeface="新細明體"/>
              </a:rPr>
              <a:t>1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Calibri"/>
                <a:ea typeface="新細明體"/>
              </a:rPr>
              <a:t>2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7"/>
          <p:cNvSpPr/>
          <p:nvPr/>
        </p:nvSpPr>
        <p:spPr>
          <a:xfrm>
            <a:off x="6877080" y="5516640"/>
            <a:ext cx="1942920" cy="906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  <a:ea typeface="標楷體"/>
              </a:rPr>
              <a:t>拼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Calibri"/>
                <a:ea typeface="新細明體"/>
              </a:rPr>
              <a:t>4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Calibri"/>
                <a:ea typeface="新細明體"/>
              </a:rPr>
              <a:t>3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7020000" y="5589720"/>
            <a:ext cx="1816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7958160" cy="535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800" spc="-1" strike="noStrike">
                <a:solidFill>
                  <a:srgbClr val="000000"/>
                </a:solidFill>
                <a:latin typeface="文鼎標楷下漢語拼音L4"/>
                <a:ea typeface="文鼎標楷下漢語拼音L4"/>
              </a:rPr>
              <a:t>心</a:t>
            </a:r>
            <a:endParaRPr b="0" lang="en-US" sz="3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308360" y="5661000"/>
            <a:ext cx="104004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Chinese Pinyin"/>
                <a:ea typeface="新細明體"/>
              </a:rPr>
              <a:t>zh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Calibri"/>
                <a:ea typeface="新細明體"/>
              </a:rPr>
              <a:t>1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Calibri"/>
                <a:ea typeface="新細明體"/>
              </a:rPr>
              <a:t>2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7"/>
          <p:cNvSpPr/>
          <p:nvPr/>
        </p:nvSpPr>
        <p:spPr>
          <a:xfrm>
            <a:off x="6877080" y="5516640"/>
            <a:ext cx="1942920" cy="906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  <a:ea typeface="標楷體"/>
              </a:rPr>
              <a:t>拼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Calibri"/>
                <a:ea typeface="新細明體"/>
              </a:rPr>
              <a:t>4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Calibri"/>
                <a:ea typeface="新細明體"/>
              </a:rPr>
              <a:t>3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7020000" y="5589720"/>
            <a:ext cx="1816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680" y="2428560"/>
            <a:ext cx="784368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800" spc="-1" strike="noStrike">
                <a:solidFill>
                  <a:srgbClr val="000000"/>
                </a:solidFill>
                <a:latin typeface="文鼎標楷下漢語拼音L4"/>
                <a:ea typeface="文鼎標楷下漢語拼音L4"/>
              </a:rPr>
              <a:t>鳥</a:t>
            </a:r>
            <a:endParaRPr b="0" lang="en-US" sz="3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7308360" y="5010840"/>
            <a:ext cx="1040040" cy="19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66"/>
              </a:solidFill>
              <a:latin typeface="Chinese Pinyin"/>
              <a:ea typeface="新細明體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Calibri"/>
                <a:ea typeface="新細明體"/>
              </a:rPr>
              <a:t>1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Calibri"/>
                <a:ea typeface="新細明體"/>
              </a:rPr>
              <a:t>2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7"/>
          <p:cNvSpPr/>
          <p:nvPr/>
        </p:nvSpPr>
        <p:spPr>
          <a:xfrm>
            <a:off x="6877080" y="5516640"/>
            <a:ext cx="1942920" cy="906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  <a:ea typeface="標楷體"/>
              </a:rPr>
              <a:t>拼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Calibri"/>
                <a:ea typeface="新細明體"/>
              </a:rPr>
              <a:t>4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Calibri"/>
                <a:ea typeface="新細明體"/>
              </a:rPr>
              <a:t>3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7020000" y="5589720"/>
            <a:ext cx="1816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0040" y="1856880"/>
            <a:ext cx="8058240" cy="41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800" spc="-1" strike="noStrike">
                <a:solidFill>
                  <a:srgbClr val="000000"/>
                </a:solidFill>
                <a:latin typeface="文鼎標楷下漢語拼音L4"/>
                <a:ea typeface="文鼎標楷下漢語拼音L4"/>
              </a:rPr>
              <a:t>老</a:t>
            </a:r>
            <a:endParaRPr b="0" lang="en-US" sz="3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7308360" y="5010840"/>
            <a:ext cx="1040040" cy="19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66"/>
              </a:solidFill>
              <a:latin typeface="Chinese Pinyin"/>
              <a:ea typeface="新細明體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Calibri"/>
                <a:ea typeface="新細明體"/>
              </a:rPr>
              <a:t>1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Calibri"/>
                <a:ea typeface="新細明體"/>
              </a:rPr>
              <a:t>2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7"/>
          <p:cNvSpPr/>
          <p:nvPr/>
        </p:nvSpPr>
        <p:spPr>
          <a:xfrm>
            <a:off x="6877080" y="5516640"/>
            <a:ext cx="1942920" cy="906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  <a:ea typeface="標楷體"/>
              </a:rPr>
              <a:t>拼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Calibri"/>
                <a:ea typeface="新細明體"/>
              </a:rPr>
              <a:t>4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Calibri"/>
                <a:ea typeface="新細明體"/>
              </a:rPr>
              <a:t>3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22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7020000" y="5589720"/>
            <a:ext cx="1816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400" y="1714320"/>
            <a:ext cx="8057880" cy="51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800" spc="-1" strike="noStrike">
                <a:solidFill>
                  <a:srgbClr val="000000"/>
                </a:solidFill>
                <a:latin typeface="文鼎標楷下漢語拼音L4"/>
                <a:ea typeface="文鼎標楷下漢語拼音L4"/>
              </a:rPr>
              <a:t>果</a:t>
            </a:r>
            <a:endParaRPr b="0" lang="en-US" sz="3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308360" y="5010840"/>
            <a:ext cx="1040040" cy="19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66"/>
              </a:solidFill>
              <a:latin typeface="Chinese Pinyin"/>
              <a:ea typeface="新細明體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Calibri"/>
                <a:ea typeface="新細明體"/>
              </a:rPr>
              <a:t>1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Calibri"/>
                <a:ea typeface="新細明體"/>
              </a:rPr>
              <a:t>2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7"/>
          <p:cNvSpPr/>
          <p:nvPr/>
        </p:nvSpPr>
        <p:spPr>
          <a:xfrm>
            <a:off x="6877080" y="5516640"/>
            <a:ext cx="1942920" cy="906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libri"/>
                <a:ea typeface="標楷體"/>
              </a:rPr>
              <a:t>拼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Calibri"/>
                <a:ea typeface="新細明體"/>
              </a:rPr>
              <a:t>4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Calibri"/>
                <a:ea typeface="新細明體"/>
              </a:rPr>
              <a:t>3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7020000" y="5589720"/>
            <a:ext cx="1816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28800" y="1714320"/>
            <a:ext cx="7843680" cy="514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3800" spc="-1" strike="noStrike">
                <a:solidFill>
                  <a:srgbClr val="000000"/>
                </a:solidFill>
                <a:latin typeface="文鼎標楷下漢語拼音L4"/>
                <a:ea typeface="文鼎標楷下漢語拼音L4"/>
              </a:rPr>
              <a:t>猜 </a:t>
            </a:r>
            <a:endParaRPr b="0" lang="en-US" sz="3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308360" y="5010840"/>
            <a:ext cx="1040040" cy="19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66"/>
              </a:solidFill>
              <a:latin typeface="Chinese Pinyin"/>
              <a:ea typeface="新細明體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  <a:ea typeface="新細明體"/>
              </a:rPr>
              <a:t>1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  <a:ea typeface="新細明體"/>
              </a:rPr>
              <a:t>2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7"/>
          <p:cNvSpPr/>
          <p:nvPr/>
        </p:nvSpPr>
        <p:spPr>
          <a:xfrm>
            <a:off x="6877080" y="5516640"/>
            <a:ext cx="1942920" cy="906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拼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  <a:ea typeface="新細明體"/>
              </a:rPr>
              <a:t>4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  <a:ea typeface="新細明體"/>
              </a:rPr>
              <a:t>3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6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347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7020000" y="5589720"/>
            <a:ext cx="1816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2600" y="1571760"/>
            <a:ext cx="7815240" cy="528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3800" spc="-1" strike="noStrike">
                <a:solidFill>
                  <a:srgbClr val="000000"/>
                </a:solidFill>
                <a:latin typeface="文鼎標楷下漢語拼音L4"/>
                <a:ea typeface="文鼎標楷下漢語拼音L4"/>
              </a:rPr>
              <a:t>問</a:t>
            </a:r>
            <a:endParaRPr b="0" lang="en-US" sz="3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308360" y="5010840"/>
            <a:ext cx="1040040" cy="19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66"/>
              </a:solidFill>
              <a:latin typeface="Chinese Pinyin"/>
              <a:ea typeface="新細明體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  <a:ea typeface="新細明體"/>
              </a:rPr>
              <a:t>1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  <a:ea typeface="新細明體"/>
              </a:rPr>
              <a:t>2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7"/>
          <p:cNvSpPr/>
          <p:nvPr/>
        </p:nvSpPr>
        <p:spPr>
          <a:xfrm>
            <a:off x="6877080" y="5516640"/>
            <a:ext cx="1942920" cy="906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拼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  <a:ea typeface="新細明體"/>
              </a:rPr>
              <a:t>4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  <a:ea typeface="新細明體"/>
              </a:rPr>
              <a:t>3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77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7020000" y="5589720"/>
            <a:ext cx="18162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28440" y="2642760"/>
            <a:ext cx="7529400" cy="335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800" spc="-1" strike="noStrike">
                <a:solidFill>
                  <a:srgbClr val="000000"/>
                </a:solidFill>
                <a:latin typeface="文鼎標楷下漢語拼音L4"/>
                <a:ea typeface="文鼎標楷下漢語拼音L4"/>
              </a:rPr>
              <a:t>來</a:t>
            </a:r>
            <a:endParaRPr b="0" lang="en-US" sz="3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308360" y="5010840"/>
            <a:ext cx="1040040" cy="19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66"/>
              </a:solidFill>
              <a:latin typeface="Chinese Pinyin"/>
              <a:ea typeface="新細明體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  <a:ea typeface="新細明體"/>
              </a:rPr>
              <a:t>1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  <a:ea typeface="新細明體"/>
              </a:rPr>
              <a:t>2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7"/>
          <p:cNvSpPr/>
          <p:nvPr/>
        </p:nvSpPr>
        <p:spPr>
          <a:xfrm>
            <a:off x="6877080" y="5516640"/>
            <a:ext cx="1942920" cy="906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拼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  <a:ea typeface="新細明體"/>
              </a:rPr>
              <a:t>4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000000"/>
                </a:solidFill>
                <a:latin typeface="Arial"/>
                <a:ea typeface="新細明體"/>
              </a:rPr>
              <a:t>3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1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2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44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0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451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467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06:48:56Z</dcterms:created>
  <dc:creator>Monica</dc:creator>
  <dc:description/>
  <dc:language>en-US</dc:language>
  <cp:lastModifiedBy>Monica</cp:lastModifiedBy>
  <dcterms:modified xsi:type="dcterms:W3CDTF">2009-11-16T07:05:19Z</dcterms:modified>
  <cp:revision>3</cp:revision>
  <dc:subject/>
  <dc:title>猜字遊戲</dc:title>
</cp:coreProperties>
</file>